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wmf" ContentType="image/x-wmf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1C8C-A514-4297-B92E-5F8DB7741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E548-31F8-4B64-B951-9B9D06C7D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5A6D-0FCC-4D23-8443-41267C2E0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FDDE-2524-4F75-BCC1-434B6CFD7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B9FD-4588-4321-9991-580906C13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84D6-BEEB-4898-B560-71B73F259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C5D7-4BB5-4069-8947-C7E7A54A1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D8DB-6531-4CD3-99BF-13305DCE6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DDAC-1468-43A4-8DC5-861EA66F1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F197-4438-4489-B8F5-64026C7BD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1DF1-7CBF-4B90-8289-087C1A04C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867D-4B33-4274-B7AD-4DB6D2551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6ED7-9BD9-48D8-8592-78CB27EF6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F120-D66A-430E-9147-FB4A1ED74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7116-5DCA-4D25-95FF-B50D6D739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4849-9343-4E25-A4A4-DCEEEAC80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9268-6911-4E64-8EA0-F7FBC7093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66EA-C644-4160-9B87-25361DA14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73D0-1B60-497D-AEB1-8AFA3AC01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7814-564C-47C9-8412-6EF334322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92E3-9E04-4FCA-86E1-D593103AB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5A61-AEB0-4E1C-8F32-7EB0413E1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BA0B-8CF6-4E7D-A43D-A3929B563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5566-B88E-4DB6-A6DB-F400DABAE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FB9E-65AF-4CB8-B06C-1ADAD08D9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E837-51C9-4D1D-9168-5A29E06FC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0F3A-93DC-4799-ACBE-03E61E858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7B7B-0DB1-4034-94EE-FCD3CFECD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A606-4F17-466D-82BE-A4A060A63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1DC1-B8D8-4CD2-8590-B8DE322A0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398C-57CD-4286-8D3D-8E64F4F68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7913-B670-45BD-BFD4-7EF55213F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F8B7-87A5-4030-8721-BD7117C8F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4A3F-8342-4BFC-B6F2-B164DC73E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C735-0247-4A3D-985E-6FC1DDF6C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53DA-7087-40FF-9F48-D68CC45EB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2F6E-2114-4595-B55D-51C7E7053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AB1B-D3F3-4996-AE55-D9A5495CF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0011-B7B6-4A87-85F9-89F416164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FCA9-87BC-4ED6-900B-B15E93AD9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0E3C-D5B7-44F1-9C99-BDF967CFD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B6B4-9572-4B02-A1C2-AAFD501F2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8575-A9D9-4185-91AF-2B548B5F2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19BA-7958-4A7B-B574-70CB5D5B0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5DCB-BE4B-410F-8E87-1C88A8106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F639-A0C1-43D2-AFBC-C8378BF3B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6E4A-0C96-4F73-807E-044416E7F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286E-7C8F-4132-8348-90A8E40E3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A052-39DF-4954-931D-A65DF1F10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6632-E746-4601-8B61-3D00141C6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4D43-6C3F-426A-A156-EFD493DDC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7DFE-B127-4DB3-8AB0-9F5585EC9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D185-A309-43E1-B89D-7F0E6C0C2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FFBE-EC82-491C-B195-2ECAAAB5A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8224-C31E-4DBC-AB6A-8D44F8523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A936-B7E7-4E5E-AB14-859A9CF96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15B3-0BA3-4DD7-AE62-74558A0AD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392C-0B56-4861-86E7-7B775BF87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87A5-AE0B-4CE9-8DCF-5634CA18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288-135E-48B7-9C1F-68C82565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02B-55C3-474D-AF2D-FC7A5BC6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23A-C67A-476A-8C39-668428A8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FCB93-C48E-45A8-B5BC-66A96AA6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AC1E4-A811-4F81-A6E1-82A5BB2D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6D81F-98BD-4567-A4BF-F7D09B72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152C5-BC99-4325-959E-CAA1EBEE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CA7FC-65E3-41DF-BF4B-D877B239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7B515-6223-43BC-8738-02EF70D9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D7A61-413B-43DB-A0E8-04F3DA9F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CA82-FC84-476E-9153-B5AC7CD5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AFB4A-C57C-4B1E-8715-287C6606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C52CE-EBFC-46FF-82CD-5682C923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93FF2-17B8-416B-B47D-F3E129A7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85945-1162-4935-8475-58035D93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CC8D7-50B9-4152-89E7-12006B03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AE4-192B-4351-8CCD-77E4178D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0EA-B1BA-447E-B721-ABC04190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9675-0831-4A19-9AB6-6DBF159E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875-E114-4490-8733-23F7F665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A5A0-8240-41E8-9317-A118B4A9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9CB-5156-430E-BCC8-FBE90B89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586-953F-48FD-8552-87ABBF7C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86B1-313F-4EC1-8565-80919BECF932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DD87-7C58-47BA-A205-C3D74683EB75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Tanulásra kép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rendszerekről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Vezérlés és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71640" y="1844640"/>
            <a:ext cx="708660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Vezérlé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megadom, mit csinálj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beavatkozás az „elvárt” és „valós” összevetése alapj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18728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sináld ez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3203640" y="2565360"/>
            <a:ext cx="1439640" cy="9349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sináld ez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507672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sináld ez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3492360" y="44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aka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835280" y="47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5435640" y="47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608472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4356000" y="544500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zabályz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19"/>
          <p:cNvSpPr/>
          <p:nvPr/>
        </p:nvSpPr>
        <p:spPr>
          <a:xfrm flipH="1">
            <a:off x="5435280" y="573408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 flipH="1">
            <a:off x="2700000" y="573408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 flipV="1">
            <a:off x="2700360" y="486864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Oval 22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2411280" y="45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 flipV="1">
            <a:off x="2484360" y="45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 flipH="1">
            <a:off x="284292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részletesebb ábrázo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635280" y="306864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aka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V="1">
            <a:off x="4356000" y="4437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5651640" y="3357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804000" y="335772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234000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zabályz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 flipH="1">
            <a:off x="6084720" y="4292640"/>
            <a:ext cx="7192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4643280" y="450864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 flipV="1">
            <a:off x="4716360" y="4436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493236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ér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6012000" y="2708280"/>
            <a:ext cx="1873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bályozott érté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57200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 flipH="1">
            <a:off x="4427640" y="43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4572000" y="256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zav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4284720" y="400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aló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 flipH="1">
            <a:off x="3492000" y="43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1908000" y="335772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30"/>
          <p:cNvSpPr/>
          <p:nvPr/>
        </p:nvSpPr>
        <p:spPr>
          <a:xfrm>
            <a:off x="2627280" y="4941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31"/>
          <p:cNvSpPr/>
          <p:nvPr/>
        </p:nvSpPr>
        <p:spPr>
          <a:xfrm>
            <a:off x="190800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 Box 32"/>
          <p:cNvSpPr/>
          <p:nvPr/>
        </p:nvSpPr>
        <p:spPr>
          <a:xfrm>
            <a:off x="3492360" y="4581360"/>
            <a:ext cx="865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lvá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Line 33"/>
          <p:cNvSpPr/>
          <p:nvPr/>
        </p:nvSpPr>
        <p:spPr>
          <a:xfrm flipV="1">
            <a:off x="2627280" y="45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Line 34"/>
          <p:cNvSpPr/>
          <p:nvPr/>
        </p:nvSpPr>
        <p:spPr>
          <a:xfrm>
            <a:off x="1908000" y="4221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35"/>
          <p:cNvSpPr/>
          <p:nvPr/>
        </p:nvSpPr>
        <p:spPr>
          <a:xfrm>
            <a:off x="3419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ltér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46836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 Adaptív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változó szakasz-tulajdonság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aka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442764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állapo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5076720" y="4221000"/>
            <a:ext cx="0" cy="216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2771640" y="3068280"/>
            <a:ext cx="1800" cy="1152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kasz adott, modellje teljesen ismert, a szakasz tulajdonságai változhatnak, amit a szabályzóban található modell köv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Line 19"/>
          <p:cNvSpPr/>
          <p:nvPr/>
        </p:nvSpPr>
        <p:spPr>
          <a:xfrm>
            <a:off x="3276720" y="2997360"/>
            <a:ext cx="0" cy="1008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Line 21"/>
          <p:cNvSpPr/>
          <p:nvPr/>
        </p:nvSpPr>
        <p:spPr>
          <a:xfrm>
            <a:off x="3276720" y="4005360"/>
            <a:ext cx="115092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AutoShape 22"/>
          <p:cNvSpPr/>
          <p:nvPr/>
        </p:nvSpPr>
        <p:spPr>
          <a:xfrm>
            <a:off x="2268360" y="414972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zabályz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 flipH="1">
            <a:off x="3419280" y="4437000"/>
            <a:ext cx="1657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4572000" y="2349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zav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4500720" y="2276640"/>
            <a:ext cx="0" cy="43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"/>
          <p:cNvGraphicFramePr/>
          <p:nvPr/>
        </p:nvGraphicFramePr>
        <p:xfrm>
          <a:off x="468360" y="1557360"/>
          <a:ext cx="78487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ok – P 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Kétféle visszacsatolá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ív és pozití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971640" y="25653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ív: folyamatos működésű rendszerekben a belső szabályozás negatív visszacsatolással működi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5" name="Picture 19" descr="nvisz"/>
          <p:cNvPicPr/>
          <p:nvPr/>
        </p:nvPicPr>
        <p:blipFill>
          <a:blip r:embed="rId3"/>
          <a:stretch/>
        </p:blipFill>
        <p:spPr>
          <a:xfrm>
            <a:off x="4788000" y="2637000"/>
            <a:ext cx="3022560" cy="10969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20"/>
          <p:cNvSpPr/>
          <p:nvPr/>
        </p:nvSpPr>
        <p:spPr>
          <a:xfrm>
            <a:off x="1116000" y="42926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ozitív: a legkisebb változás is aránytalanul nagy változást idéz elő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AutoShape 21"/>
          <p:cNvSpPr/>
          <p:nvPr/>
        </p:nvSpPr>
        <p:spPr>
          <a:xfrm>
            <a:off x="6012000" y="4365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154764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általában negatív asszociáció: rombo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ok - pozitív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ív visszacsatolás szükségszerűség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1116000" y="292428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bályozás nélkül: atombom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bályozással: atomerőmű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nergianyer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1187280" y="386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iológia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2340000" y="3860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éralvad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85128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vélhullás (apoptózi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68" name="Picture 11" descr="gomba"/>
          <p:cNvPicPr/>
          <p:nvPr/>
        </p:nvPicPr>
        <p:blipFill>
          <a:blip r:embed="rId3"/>
          <a:stretch/>
        </p:blipFill>
        <p:spPr>
          <a:xfrm>
            <a:off x="6156360" y="1844640"/>
            <a:ext cx="1944720" cy="1467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apeiler"/>
          <p:cNvPicPr/>
          <p:nvPr/>
        </p:nvPicPr>
        <p:blipFill>
          <a:blip r:embed="rId4"/>
          <a:stretch/>
        </p:blipFill>
        <p:spPr>
          <a:xfrm>
            <a:off x="6156360" y="378936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3" descr="animalcell"/>
          <p:cNvPicPr/>
          <p:nvPr/>
        </p:nvPicPr>
        <p:blipFill>
          <a:blip r:embed="rId5"/>
          <a:stretch/>
        </p:blipFill>
        <p:spPr>
          <a:xfrm>
            <a:off x="2700360" y="4437000"/>
            <a:ext cx="2401920" cy="2054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ív és negatív együtt: instabilt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11600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Olyan szabályozott körben, ahol pozitív és negatív visszacsatolások is vannak, az instabilitás valószínűsége nagyobb mint null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1116000" y="2924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stabilitás: annak a lehetősége, hogy a rendszer irányíthatatlanná, szabályozhatatlanná válik, vagy olyan állapotba jut, ami számunkra kedvezőtlen és onnan visszahozni nem le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ív és negatív együtt: oszcillálás lehetősé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1042920" y="2492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rókák és nyulak száma egy relatív zárt rendszer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4" name="Picture 10" descr="foxrabbit"/>
          <p:cNvPicPr/>
          <p:nvPr/>
        </p:nvPicPr>
        <p:blipFill>
          <a:blip r:embed="rId3"/>
          <a:stretch/>
        </p:blipFill>
        <p:spPr>
          <a:xfrm>
            <a:off x="2411280" y="3068640"/>
            <a:ext cx="3961080" cy="3021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87" name="Object 8"/>
          <p:cNvGraphicFramePr/>
          <p:nvPr/>
        </p:nvGraphicFramePr>
        <p:xfrm>
          <a:off x="324000" y="1341360"/>
          <a:ext cx="82087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208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ázisté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971640" y="18446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Fázistér technika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rendszer változóit absztakt térben jelenítjük meg, amelyben egyetlen pont leírja az egész rendsz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4" name="Picture 7" descr="lorenz"/>
          <p:cNvPicPr/>
          <p:nvPr/>
        </p:nvPicPr>
        <p:blipFill>
          <a:blip r:embed="rId3"/>
          <a:stretch/>
        </p:blipFill>
        <p:spPr>
          <a:xfrm>
            <a:off x="3059280" y="2997360"/>
            <a:ext cx="33145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3. Analíz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900000" y="2349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XVI-XVII. század: komplex rendszerek megismerésének módja: vegyük szét elemekre, az elemeket vizsgáljuk me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971640" y="3645000"/>
            <a:ext cx="72007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Biológiában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z nem vezet eredmény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éteznek „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kiemelkedő tulajdonságok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”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emergente Eigenschaften) : amelyek megjelenése nem magyarázható meg a részek tulajdonságaiv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971640" y="5445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ibniz: a tanulás képessége a „késszé összeálló rendszer tulajdonsága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39640" y="3645000"/>
            <a:ext cx="7848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Varga György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39640" y="1413000"/>
            <a:ext cx="769644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Tanulásra képes rendszerek az IT architektúrába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539640" y="4581360"/>
            <a:ext cx="7696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3e3ff"/>
                </a:solidFill>
                <a:latin typeface="Tahoma"/>
              </a:rPr>
              <a:t>www.xplanet.hu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900000" y="2205000"/>
            <a:ext cx="74678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nek kezdetben több stabilitási pontja van (a fázistérbe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a által jut el egy stabil pontból egy másik esetleg stabil pont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eltételez önismeretet és egy modellt a külvilágró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önismeret itt: mivel, hogyan reagál a rendszer, a reagálásnak milyen visszahatása van a rendszer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i elromlott, ki kell javíta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obb reakció érdekében: működő egységet hatékonyabbá t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1187280" y="529992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 determinisztikus dön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2" name="Picture 9" descr="untitled2"/>
          <p:cNvPicPr/>
          <p:nvPr/>
        </p:nvPicPr>
        <p:blipFill>
          <a:blip r:embed="rId3"/>
          <a:stretch/>
        </p:blipFill>
        <p:spPr>
          <a:xfrm>
            <a:off x="3059280" y="3500280"/>
            <a:ext cx="2485800" cy="14940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16"/>
          <p:cNvSpPr/>
          <p:nvPr/>
        </p:nvSpPr>
        <p:spPr>
          <a:xfrm flipV="1">
            <a:off x="2268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AutoShape 18"/>
          <p:cNvSpPr/>
          <p:nvPr/>
        </p:nvSpPr>
        <p:spPr>
          <a:xfrm flipV="1">
            <a:off x="5940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AutoShape 19"/>
          <p:cNvSpPr/>
          <p:nvPr/>
        </p:nvSpPr>
        <p:spPr>
          <a:xfrm flipH="1">
            <a:off x="1258920" y="3573360"/>
            <a:ext cx="1728720" cy="576360"/>
          </a:xfrm>
          <a:prstGeom prst="rightArrow">
            <a:avLst>
              <a:gd name="adj1" fmla="val 50000"/>
              <a:gd name="adj2" fmla="val 7498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öbb f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AutoShape 20"/>
          <p:cNvSpPr/>
          <p:nvPr/>
        </p:nvSpPr>
        <p:spPr>
          <a:xfrm>
            <a:off x="5724360" y="3573360"/>
            <a:ext cx="1872000" cy="576360"/>
          </a:xfrm>
          <a:prstGeom prst="rightArrow">
            <a:avLst>
              <a:gd name="adj1" fmla="val 50000"/>
              <a:gd name="adj2" fmla="val 81199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öbb 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900000" y="2205000"/>
            <a:ext cx="74678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napozó egysejtű esete (Gánti Tibor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tt túl sok egysejtű él: kevés ennivaló, kevés fény.        Merre megy barátunk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900000" y="2205000"/>
            <a:ext cx="7467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 a biológiában: pl. bicep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187280" y="515700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ogyan nőnek az izomok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900000" y="2205000"/>
            <a:ext cx="74678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: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működő egységet hatékonyabbá tenni” nem létezhet pozitív visszacsatolás nélkü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1258920" y="4076280"/>
            <a:ext cx="6408720" cy="64260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anulásra képes rendszerekben kötelezően létezik pozitív visszacsato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1258920" y="494100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zitív visszacsatolás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nstabilit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258920" y="5569200"/>
            <a:ext cx="6337440" cy="699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tanulásra képes rendszerek – kivétel nélkül –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nstabil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Mikor tanulóképes egy rendszer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kor tanulóképes egy rendsz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1116000" y="4292640"/>
            <a:ext cx="6934320" cy="916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cc00"/>
                </a:solidFill>
                <a:latin typeface="Arial"/>
              </a:rPr>
              <a:t>Minden – analóg vezérléstechnikával leírt – tanuóképes rendszerben van pozitív visszacsatolás, ezért ilyen  modellben leírt rendszer instabi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1116000" y="3500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és ebben a folyamatban nem determinisztikus döntés is történik (trial&amp;error, „szubjektív”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116000" y="306864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a változó körülményekhez jól tud igazod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1116000" y="537300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anulás: önjavítás nem determinisztikus mód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 - összefoglalá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826920" y="2060640"/>
            <a:ext cx="746784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 instabil (a fázistérbe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mdeterminisztikus döntésre kép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a által jut el egy közel stabil pontból egy másik közel stabil pont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eltételez önismeretet és egy modellt a külvilágró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önismeret itt: mivel, hogyan reagál a rendszer, a reagálásnak milyen visszahatása van a rendszer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i elromlott, ki kell javíta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obb reakció érdekében: működő egységet hatékonyabbá t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A tanulás folyamata nem determiniszikus és nem reprodukálhat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Nemlineáris egyenlet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raktál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 mindenkinek tetszik, de szükségszerű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m lineáris egyenletek matematikája (káoszelmélet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971640" y="3141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lineáris rendszere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lyeket nem lehet lineáris egyenletekkel leírni: pl. gázok turbulens viselkedé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agyományos felfogá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ineáris egyenletek leírják a rendszert – folyamatos függvény, deriválható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971640" y="249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lineáris rendszere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lyeket nem lehet lineáris egyenletekkel leírni: pl. gázok turbulens viselkedé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1042920" y="3213000"/>
            <a:ext cx="72010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omplex rendszereket csak komplex függvényekkel lehet leírni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2050920" y="3788640"/>
            <a:ext cx="51850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: egyszerű determinisztikus fügvénny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1619280" y="4507560"/>
            <a:ext cx="5761080" cy="1522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ezdeti feltételek apró változása a viselkedés nem gyanított gazdagságát adhat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látszólagos kaotikus viselkedés rendezett strukúrákat, finom és szép ábrázatokat eredményez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2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042920" y="1773360"/>
            <a:ext cx="70866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Visszacsatolás és iteráció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iteráció nagy  komplexitást hozhat lét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  x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kx(1-x) , ahol  0 &lt; x &lt; 1  (pék transzformáció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hetetlen megjósolni, bizonyos (nagy számú) lépés után       mi lesz x érté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1187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lineáris egyenletek: a viselkedés pontos előrejelzése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Kérés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biltelefono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ang- vagy képrögzíté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em begyakorolt – tartalom, összeállít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érdés-válasz: egy mond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ki tudja a válasz, várjon fél perc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042920" y="177336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dward N.Lorenz(1963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három paraméteres egyenletrendszer meteorológiai előrejelzés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rendkívül érzékeny a kezdeti paraméterek kicsi változására is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lőrejelzés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illangó-hatás(1979): „Brazilia felett egy pillangó szárnylebbenése akár egy tornádót is okozhat Texas felet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1476360" y="4795200"/>
            <a:ext cx="237492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x/dt = R(y-x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y/dt = x(P-z) –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z/dt = xy - B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78" name="Picture 7" descr="lorenz"/>
          <p:cNvPicPr/>
          <p:nvPr/>
        </p:nvPicPr>
        <p:blipFill>
          <a:blip r:embed="rId3"/>
          <a:stretch/>
        </p:blipFill>
        <p:spPr>
          <a:xfrm>
            <a:off x="4572000" y="4508640"/>
            <a:ext cx="1728720" cy="1490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az előrejelzés lehetetlensége, hogy egy adott időpontban az attraktor a fázistér melyik pontján halad á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971640" y="544428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őrejelzés lehetelensége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aotikus rendszer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áoszelmél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5" name="Picture 7" descr="lorenz"/>
          <p:cNvPicPr/>
          <p:nvPr/>
        </p:nvPicPr>
        <p:blipFill>
          <a:blip r:embed="rId3"/>
          <a:stretch/>
        </p:blipFill>
        <p:spPr>
          <a:xfrm>
            <a:off x="1258920" y="2421000"/>
            <a:ext cx="3314520" cy="285732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8"/>
          <p:cNvSpPr/>
          <p:nvPr/>
        </p:nvSpPr>
        <p:spPr>
          <a:xfrm>
            <a:off x="1258920" y="587628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áosz elmélet === nemlineáris egyenletek matematiká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7" name="Picture 9" descr="lorenz-3Dview"/>
          <p:cNvPicPr/>
          <p:nvPr/>
        </p:nvPicPr>
        <p:blipFill>
          <a:blip r:embed="rId4"/>
          <a:stretch/>
        </p:blipFill>
        <p:spPr>
          <a:xfrm>
            <a:off x="5076720" y="27813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tematika- fraktálgeometri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noit Mandelbro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magukhoz hasonló geometriai alakok tanulmányozása (felhő: 7 nagyságrend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1619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raktálok: önmagukhoz hasonló alakzakok, önmagukat kicsinyítve tartalmazz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geometria péld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enger szőnyeg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ényszög közepét – oldalak szerint egyharmad arányban – kivágju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ierpinki háromszög</a:t>
            </a: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lyukas háromszö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99" name="Picture 7" descr="sierp-zoom"/>
          <p:cNvPicPr/>
          <p:nvPr/>
        </p:nvPicPr>
        <p:blipFill>
          <a:blip r:embed="rId3"/>
          <a:stretch/>
        </p:blipFill>
        <p:spPr>
          <a:xfrm>
            <a:off x="5867280" y="36450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Aniteppich"/>
          <p:cNvPicPr/>
          <p:nvPr/>
        </p:nvPicPr>
        <p:blipFill>
          <a:blip r:embed="rId4"/>
          <a:stretch/>
        </p:blipFill>
        <p:spPr>
          <a:xfrm>
            <a:off x="125892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042920" y="1773360"/>
            <a:ext cx="708660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aston Julia (1918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 Kc azon komplex számok halmaza, amelyekre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z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08" name="Picture 5" descr="Julia_set"/>
          <p:cNvPicPr/>
          <p:nvPr/>
        </p:nvPicPr>
        <p:blipFill>
          <a:blip r:embed="rId1"/>
          <a:stretch/>
        </p:blipFill>
        <p:spPr>
          <a:xfrm>
            <a:off x="826920" y="1341360"/>
            <a:ext cx="7272360" cy="4089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1" name="Picture 5" descr="julia_red"/>
          <p:cNvPicPr/>
          <p:nvPr/>
        </p:nvPicPr>
        <p:blipFill>
          <a:blip r:embed="rId1"/>
          <a:stretch/>
        </p:blipFill>
        <p:spPr>
          <a:xfrm>
            <a:off x="1547640" y="1268280"/>
            <a:ext cx="575964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4" name="Picture 5" descr="Mandel-Julia"/>
          <p:cNvPicPr/>
          <p:nvPr/>
        </p:nvPicPr>
        <p:blipFill>
          <a:blip r:embed="rId1"/>
          <a:stretch/>
        </p:blipFill>
        <p:spPr>
          <a:xfrm>
            <a:off x="1908000" y="1700280"/>
            <a:ext cx="4969080" cy="3730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7" name="Picture 5" descr="600px-Julia"/>
          <p:cNvPicPr/>
          <p:nvPr/>
        </p:nvPicPr>
        <p:blipFill>
          <a:blip r:embed="rId1"/>
          <a:stretch/>
        </p:blipFill>
        <p:spPr>
          <a:xfrm>
            <a:off x="2050920" y="1413000"/>
            <a:ext cx="5067360" cy="5067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Fraktálok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900000" y="213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lyen különbségek vannak az előző két kép közöt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1403280" y="378864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ülönálló területek, vagy egy összefüggő 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Tartalo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Text Box 205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anulásra képes rendszerekrő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nformatikai rendszer architektúrájának kérdése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éldák (IT architektúr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hol van még mit tanulni (mit csinálunk rosszul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Összefoglal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Rectangle 207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andelbrot halmaz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on komplex számok halmaza, amelyekre z = (o + i0) kezdőértékkel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0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1547640" y="4579920"/>
            <a:ext cx="5761080" cy="69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ndelbrot halmaz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halmaz a z=0 kezdőértékk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1547640" y="552384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sejtése: ezek a halmazok összefüggő területet ad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84360" y="1628640"/>
          <a:ext cx="784836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84836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iért érekes a Mandelbrot halmaz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2133720"/>
            <a:ext cx="708660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t értékelhetjük úgy, mint egy fázistér-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sak azok a Julia ábrák érdekesek, amelyekben a halmazelemek összefüggő területet alkot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nnyiben egy rendszert csak ezen a területen belül engedjül létezni, a rendszer működőképes (korlátos) maradh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 – nemlineáris egyenletekkel leírt – rendszer stabilitása nagyon érzékeny a pontos kezdeti feltételek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jegyzés: nincs kijelentésünk a gyűjtőpontok (attraktor) számáról – Lorenz attraktor: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1403280" y="5804640"/>
            <a:ext cx="5761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Mandelbrot halmaz szélei fraktál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: alma-emberk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39" name="Picture 5" descr="Mandelbrot-Menge_farbig"/>
          <p:cNvPicPr/>
          <p:nvPr/>
        </p:nvPicPr>
        <p:blipFill>
          <a:blip r:embed="rId1"/>
          <a:stretch/>
        </p:blipFill>
        <p:spPr>
          <a:xfrm>
            <a:off x="125892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2" name="Picture 5" descr="abfluss"/>
          <p:cNvPicPr/>
          <p:nvPr/>
        </p:nvPicPr>
        <p:blipFill>
          <a:blip r:embed="rId1"/>
          <a:stretch/>
        </p:blipFill>
        <p:spPr>
          <a:xfrm>
            <a:off x="1547640" y="1700280"/>
            <a:ext cx="5545440" cy="415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5" name="Picture 5" descr="db_Chaos-Mandelbrot1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Szemléletbeli problém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1042920" y="1773360"/>
            <a:ext cx="7086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ában döntések egy része nem determinisztik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a a döntés nem manifelsztálódik a külső vagy belső modell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„alkotó” soha nem tudja meg, mikor miért döntött a rendszer úgy ahogy tet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eljes tanulási folyamat nem ismételhető meg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terminisztikus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332000" y="4941000"/>
            <a:ext cx="6480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z az a pont, ahol a műszaki embereket kirázza a hideg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 az a jelenség vagy folyamat, ami jellemző a tanulóképes rendszerekre, és még nem volt róla szó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ire iszik a magyar ember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AutoShape 7"/>
          <p:cNvSpPr/>
          <p:nvPr/>
        </p:nvSpPr>
        <p:spPr>
          <a:xfrm>
            <a:off x="1403280" y="2133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2700360" y="2205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észl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AutoShape 9"/>
          <p:cNvSpPr/>
          <p:nvPr/>
        </p:nvSpPr>
        <p:spPr>
          <a:xfrm>
            <a:off x="2700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kocsm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AutoShape 10"/>
          <p:cNvSpPr/>
          <p:nvPr/>
        </p:nvSpPr>
        <p:spPr>
          <a:xfrm>
            <a:off x="4932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gbeszé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6804000" y="22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anulsá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4932360" y="40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em tanulsá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5003640" y="494172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elej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Line 14"/>
          <p:cNvSpPr/>
          <p:nvPr/>
        </p:nvSpPr>
        <p:spPr>
          <a:xfrm>
            <a:off x="2340000" y="24210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3348000" y="2708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Line 16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Line 17"/>
          <p:cNvSpPr/>
          <p:nvPr/>
        </p:nvSpPr>
        <p:spPr>
          <a:xfrm flipV="1">
            <a:off x="6443640" y="270792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Line 18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19"/>
          <p:cNvSpPr/>
          <p:nvPr/>
        </p:nvSpPr>
        <p:spPr>
          <a:xfrm>
            <a:off x="5651640" y="450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042920" y="1773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Új környezetben a régi reakciók egy része felesleg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Amire nincs szükség: el kell felejte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felejtés tudatos is le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1187280" y="4075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ülönbséget kell tenni a lényeges és lényegtelen közöt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971640" y="2421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Lényegtelen – felejtés - észlelé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971640" y="4652280"/>
            <a:ext cx="648000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észlelést tudatunk – a lényeges, lényegtelen alapján –  jelentősen befolyásol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1042920" y="2997360"/>
            <a:ext cx="7086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, hogy mit tartunk lényegtelennek, észlelésünket is befolyásolja. Nagyon jelentőse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Tanulásra kép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rendszerekről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97964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Önnek mi az elképzelése a tanulásról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971640" y="1844640"/>
            <a:ext cx="708660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reprodukciója (másolása)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 reprodukciója egyszerű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már „tanult” rendszer másolása csak akkor egyszerű, ha a rendszer működés közben is fizikailag jól körülhatárolt és elválaszható környezetétő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116000" y="4005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tanított ideghálózat-szimuláci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férfi-nő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önreprodukciója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em foglalkozunk ve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1116000" y="4005360"/>
            <a:ext cx="70866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ámítógép vírusok: adaptációra képes „alkotások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Kérdés: hogyan vizsgálják meg, hogy befogadót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az adott számítógépet) már megfertőződöt-e az adott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írustól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Object 2"/>
          <p:cNvGraphicFramePr/>
          <p:nvPr/>
        </p:nvGraphicFramePr>
        <p:xfrm>
          <a:off x="395280" y="1773360"/>
          <a:ext cx="8458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458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Rectangle 3"/>
          <p:cNvSpPr/>
          <p:nvPr/>
        </p:nvSpPr>
        <p:spPr>
          <a:xfrm>
            <a:off x="468360" y="2924280"/>
            <a:ext cx="8064360" cy="338436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AutoShape 4"/>
          <p:cNvSpPr/>
          <p:nvPr/>
        </p:nvSpPr>
        <p:spPr>
          <a:xfrm>
            <a:off x="539640" y="3933720"/>
            <a:ext cx="619128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9</a:t>
            </a:r>
            <a:r>
              <a:rPr b="0" lang="en-IE" sz="4400" spc="-1" strike="noStrike">
                <a:solidFill>
                  <a:srgbClr val="e3e3ff"/>
                </a:solidFill>
                <a:latin typeface="Arial"/>
                <a:ea typeface="Arial"/>
              </a:rPr>
              <a:t>. </a:t>
            </a: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Összefoglal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539640" y="1773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ásra képes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3708360" y="22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örnyez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AutoShape 9"/>
          <p:cNvSpPr/>
          <p:nvPr/>
        </p:nvSpPr>
        <p:spPr>
          <a:xfrm>
            <a:off x="284328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észl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AutoShape 10"/>
          <p:cNvSpPr/>
          <p:nvPr/>
        </p:nvSpPr>
        <p:spPr>
          <a:xfrm>
            <a:off x="3132000" y="4437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öntés d/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11"/>
          <p:cNvSpPr/>
          <p:nvPr/>
        </p:nvSpPr>
        <p:spPr>
          <a:xfrm>
            <a:off x="684360" y="4437000"/>
            <a:ext cx="143964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ényeg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399564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éved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Line 13"/>
          <p:cNvSpPr/>
          <p:nvPr/>
        </p:nvSpPr>
        <p:spPr>
          <a:xfrm>
            <a:off x="3492360" y="2708280"/>
            <a:ext cx="0" cy="50472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14"/>
          <p:cNvSpPr/>
          <p:nvPr/>
        </p:nvSpPr>
        <p:spPr>
          <a:xfrm>
            <a:off x="190800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változ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Line 15"/>
          <p:cNvSpPr/>
          <p:nvPr/>
        </p:nvSpPr>
        <p:spPr>
          <a:xfrm flipV="1">
            <a:off x="1403280" y="3573000"/>
            <a:ext cx="1297080" cy="647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Line 16"/>
          <p:cNvSpPr/>
          <p:nvPr/>
        </p:nvSpPr>
        <p:spPr>
          <a:xfrm>
            <a:off x="3492360" y="3645000"/>
            <a:ext cx="35892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Line 17"/>
          <p:cNvSpPr/>
          <p:nvPr/>
        </p:nvSpPr>
        <p:spPr>
          <a:xfrm flipH="1">
            <a:off x="2627280" y="4724280"/>
            <a:ext cx="432000" cy="289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Line 18"/>
          <p:cNvSpPr/>
          <p:nvPr/>
        </p:nvSpPr>
        <p:spPr>
          <a:xfrm>
            <a:off x="4572000" y="4724280"/>
            <a:ext cx="28728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Line 19"/>
          <p:cNvSpPr/>
          <p:nvPr/>
        </p:nvSpPr>
        <p:spPr>
          <a:xfrm flipH="1">
            <a:off x="2268000" y="4581360"/>
            <a:ext cx="721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AutoShape 20"/>
          <p:cNvSpPr/>
          <p:nvPr/>
        </p:nvSpPr>
        <p:spPr>
          <a:xfrm>
            <a:off x="6804000" y="4221000"/>
            <a:ext cx="1655640" cy="792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elej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Line 21"/>
          <p:cNvSpPr/>
          <p:nvPr/>
        </p:nvSpPr>
        <p:spPr>
          <a:xfrm>
            <a:off x="6372360" y="4508640"/>
            <a:ext cx="433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Line 22"/>
          <p:cNvSpPr/>
          <p:nvPr/>
        </p:nvSpPr>
        <p:spPr>
          <a:xfrm flipH="1">
            <a:off x="6372000" y="4724280"/>
            <a:ext cx="43164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Text Box 23"/>
          <p:cNvSpPr/>
          <p:nvPr/>
        </p:nvSpPr>
        <p:spPr>
          <a:xfrm>
            <a:off x="5003640" y="5373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mlékez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Text Box 24"/>
          <p:cNvSpPr/>
          <p:nvPr/>
        </p:nvSpPr>
        <p:spPr>
          <a:xfrm>
            <a:off x="2771640" y="58770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egatív és pozitív visszacsatolású, instabil rendsz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AutoShape 25"/>
          <p:cNvSpPr/>
          <p:nvPr/>
        </p:nvSpPr>
        <p:spPr>
          <a:xfrm>
            <a:off x="4500720" y="3141720"/>
            <a:ext cx="136656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beavatkoz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Line 26"/>
          <p:cNvSpPr/>
          <p:nvPr/>
        </p:nvSpPr>
        <p:spPr>
          <a:xfrm flipV="1">
            <a:off x="4284720" y="3645000"/>
            <a:ext cx="64764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Line 27"/>
          <p:cNvSpPr/>
          <p:nvPr/>
        </p:nvSpPr>
        <p:spPr>
          <a:xfrm flipV="1">
            <a:off x="5076720" y="2708280"/>
            <a:ext cx="0" cy="503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Informatikai rendszer architektúrájának kérdései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1908000" y="3860640"/>
            <a:ext cx="4896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Tanulásra képes rendszerek az IT architektúrába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Példa (IT architektúra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Önök nem únják mé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hol van még mit tanulni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(mit csinálunk rosszul?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A közös tudás egyben közös kincs i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Önnek mi az elképzelés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 tanulásról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2268360" y="4365720"/>
            <a:ext cx="4896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Köszönöm türelmüket és figyelmüke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V É G 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Szemlé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900000" y="2133720"/>
            <a:ext cx="69343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Szemlél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emlélet: egy adott témához kapcsolódó felfogás vagy álláspo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Felfogás: gondolkodásmód, elképz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mód: mód, aholgyan gondolkodunk (spontán, érzelemmel, racionálisan,..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: belső elfoglaltság, amikor megpróbálunk egy felismerést megfogalmazni,elképzelések, emlékek és fogalmak alapj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124000" y="5589000"/>
            <a:ext cx="44658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szemlélet alapja a hit, vagy a tud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468360" y="184464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Tanulókép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kor tanulóképes egy rendsz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203640" y="3645000"/>
            <a:ext cx="2808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anul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2124000" y="465300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50072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2124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118728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anítj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594036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nálló dön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611280" y="5804640"/>
            <a:ext cx="3240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egadják mit, hogy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5003640" y="5804640"/>
            <a:ext cx="32403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aját képesség javítás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1835280" y="2923560"/>
            <a:ext cx="51847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a a változó körülményekhez jól tud igazod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7236000" y="4221000"/>
            <a:ext cx="720720" cy="648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I. Tanulásra képes rendszerekrő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71640" y="1844640"/>
            <a:ext cx="70866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Vezérlés és szabályoz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Visszacsatolás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3 Analíz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4 Tanulóképes rendszerek tulajdonsága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5 Matematik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6 Szemléletbeli problém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7 Ami kimarad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8 Technikai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9 Összefogla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Vezérlés és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71640" y="1844640"/>
            <a:ext cx="720072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Kibernetika: interdiszciplináris kutatási irá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1944, matematika, biológia, szabályozás, társadal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orbert Wiener, Claude Shann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Legfontosabb eredményei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vezérlés- és szabályozáselmél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visszacsatolás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formációelmélet (jel-elmélet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állapottér (fázisdiagramm) vizsgál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0:09:43Z</dcterms:created>
  <dc:creator>www.xplanet.hu</dc:creator>
  <dc:description/>
  <dc:language>en-US</dc:language>
  <cp:lastModifiedBy>Gyorgy Varga</cp:lastModifiedBy>
  <dcterms:modified xsi:type="dcterms:W3CDTF">2013-01-04T19:50:30Z</dcterms:modified>
  <cp:revision>1590</cp:revision>
  <dc:subject/>
  <dc:title>J2EE-001-VargaGy</dc:title>
</cp:coreProperties>
</file>