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912A-C87E-467B-A55A-4F755EEBC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794E-5B06-48E7-AD2B-981C73720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0D18-71FD-4FC7-AE9C-9CF8505E7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3426-AB5F-4BBC-A314-111E59D65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4049-70A0-4720-9693-107BDD30A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80F4-22AF-480C-841C-D3C478E2C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4271-EA4D-4033-91DB-E99CCE2DB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4040-F079-47E4-A9C0-073717D30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32ED-1E0C-4367-A697-8EAA0AC70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E94F-A089-4396-9439-191B024DC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1626-7DAF-4C2B-A0CE-416B1101A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6D66-FD35-4468-85F1-715B51A30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6F36-DBAA-4717-BA34-420678FF7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E917-6275-4604-8C30-72687BF94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E61D-D7A5-456F-9156-81D34CFDC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4E11-EB31-4BD9-BEE6-A2FD22D8A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44D3-3420-459C-A293-DB42E5F6B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786-8AFA-49B3-9B2F-F9B779F69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BBD9-F0D1-48D0-8437-05968A444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DDC7-FBE8-4BA2-9B1D-565A3BAD5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E961-6F3C-4B68-8B64-B887BB94B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4645-C2AE-4CB8-A2D8-2DEA73652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FAEE-228D-43E2-BC77-AA290A09B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D512-391A-4C80-AF7B-E14C0C3C0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F92C-20AE-44E0-B9FE-813EFA01E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6806-E549-4977-B030-473A74FB5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0DBB-6E85-4F90-A1A2-89CB33E47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475F-3321-44A3-8881-93452E92B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593D-2CEB-4B2C-B497-1FCC452BF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1B32-3891-4F1C-8822-989A6C007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D0DB-B3DC-4019-9152-BF1DCEAAF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3138-8806-4533-80A4-82C3744BA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A410-626A-4420-83CA-2E4DEFA3D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D5D0-BA4A-4AA3-A895-4162A3965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3821-E4E0-4DC8-8917-CF6B5291B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F9D5-B9E1-4663-999D-DDCD5CE88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72C4-4971-462B-9B31-485F62970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BB8F-9A36-430B-9325-F5470A4AF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715E-D4A6-4C88-BD89-85EDA68A6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8EC0-1441-4361-9B0F-47FD6CC56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CEFD-4FC3-4E78-91F4-B3C5027CC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4823-A426-4C5F-9A04-3273601DA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0447-EA02-4194-A968-F4D73EA71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A74C-DC32-4D5A-B2E1-A7A79907F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BE16-896D-4083-A665-FD7FF34A3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969E-C00F-43C3-B703-9832D490C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245D-D0C8-4067-8574-1E08F6E99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E5DE-5F53-4D11-8121-2BD7377F9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FB02-24A5-4BBF-8A9A-9DE20E822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D170-6A37-4716-87AB-79CFC12AC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46F4-E9CE-4042-B1B7-59E4834F7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BBDC-B798-4BCD-AEBC-2B237CFF1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A6E3-B952-4ACB-9661-D41C0B47E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238E-49FB-444F-A896-431D9F4AA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C41B-7367-4065-B856-68A4EC81E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44B1-EF28-4DB5-93AC-DD2849F1E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DD4C-5FC9-42B9-9860-FDC1416DB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9202-9EF0-4E73-874A-38591B4C7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EB1-DE8F-47A0-B117-398BE754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84C-3FB5-4EA4-B345-E8D1F897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5F1-C11C-49E1-96A5-41FA0487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254-DEAC-4B0A-A129-CE27D6B2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04893-4E90-431A-A5C4-63EDE6F4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499AE-664D-4AC0-A19D-ABC119AC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409CE-DDB5-4134-B56B-A2D6EFBE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44B08-6551-44E3-9843-338232C5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D20D3-2EFE-4758-864C-1C493C3C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FD0D4-FD3B-4369-B0D2-AD78EF77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C6E6D-D536-4F05-B18C-3F88C5B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4BA-00B0-442F-A0A9-0C8362A4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C04E9-7285-4343-A41C-7DA84988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53306-1861-4CDC-9ADE-0C96D732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96593-97F2-4E7C-81B0-14D44E1E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A5A32-421D-4BC2-A273-C8C84222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DA76A-597F-42FA-B964-C4A598BF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5DC-8B65-4FEE-89BD-AAFFDFAC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0A1-ED28-4CF2-B760-7320CE12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25C-EFDE-4284-81C7-0EDC1AB6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1E8-325E-46F2-A7D9-BB974483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8DC-FBE9-4AD8-B34A-0605AC64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083-910D-46CE-B399-1DDB9E2B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513-B4E2-4F35-A6EB-23DA071A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33FF-EE96-4D5B-832F-5AA2D2E955B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5600-1289-4FB8-90AC-D230C9CC2066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ezérlé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megadom, mit csinálj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beavatkozás az „elvárt” és „valós” összevetése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részletesebb ábráz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ott érté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aló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vá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t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Adaptí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változó szakasz-tulajdonság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állapo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kasz adott, modellje teljesen ismert, a szakasz tulajdonságai változhatnak, amit a szabályzóban található modell köv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4572000" y="2349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4500720" y="227664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étféle visszacsatol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 és pozití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: folyamatos működésű rendszerekben a belső szabályozás negatív visszacsatolással működ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zitív: a legkisebb változás is aránytalanul nagy változást idéz elő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154764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általában negatív asszociáció: romb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- pozití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visszacsatolás szükségszerűség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 nélkül: atombom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sal: atomerőmű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anye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ógia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34000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éralva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vélhullás (apoptózi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instabil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lyan szabályozott körben, ahol pozitív és negatív visszacsatolások is vannak, az instabilitás valószínűsége nagyobb mint null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ás: annak a lehetősége, hogy a rendszer irányíthatatlanná, szabályozhatatlanná válik, vagy olyan állapotba jut, ami számunkra kedvezőtlen és onnan visszahozni nem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oszcillálás lehető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ókák és nyulak száma egy relatív zárt rendszer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8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ázisté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ázistér technika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rendszer változóit absztakt térben jelenítjük meg, amelyben egyetlen pont leírja az egész rendsz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íz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900000" y="2349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század: komplex rendszerek megismerésének módja: vegyük szét elemekre, az elemeket vizsgáljuk me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971640" y="364500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Biológiába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z nem vezet eredmény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éteznek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kiemelkedő tulajdonságo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emergente Eigenschaften) : amelyek megjelenése nem magyarázható meg a részek tulajdonságaiv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971640" y="5445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a tanulás képessége a „késszé összeálló rendszer tulajdonsága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Varga György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539640" y="458136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nek kezdetben több stabilitási pontja van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stabil pontból egy másik esetleg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 determinisztikus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napozó egysejtű esete (Gánti Tibor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tt túl sok egysejtű él: kevés ennivaló, kevés fény.        Merre megy barátunk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 a biológiában: pl. bicep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gyan nőnek az izomok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űködő egységet hatékonyabbá tenni” nem létezhet pozitív visszacsatolás nélkü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ra képes rendszerekben kötelezően létezik pozitív visszacsat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ív visszacsatolás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258920" y="55692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anulásra képes rendszerek – kivétel nélkül –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stabil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Mikor tanulóképes egy rendszer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1116000" y="4292640"/>
            <a:ext cx="693432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cc00"/>
                </a:solidFill>
                <a:latin typeface="Arial"/>
              </a:rPr>
              <a:t>Minden – analóg vezérléstechnikával leírt – tanuóképes rendszerben van pozitív visszacsatolás, ezért ilyen  modellben leírt rendszer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és ebben a folyamatban nem determinisztikus döntés is történik (trial&amp;error, „szubjektív”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: önjavítás nem determinisztikus mód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 - összefoglalá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826920" y="2060640"/>
            <a:ext cx="746784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instabil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determinisztikus döntésre kép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közel stabil pontból egy másik közel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A tanulás folyamata nem determiniszikus és nem reprodukálhat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emlineáris egyenlet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 mindenkinek tetszik, de szükségszerű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 lineáris egyenletek matematikája (káoszelmélet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2050920" y="3788640"/>
            <a:ext cx="5185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161928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2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Kérés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o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ng- vagy képrögzít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m begyakorolt – tartalom, összeállít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érdés-válasz: egy mond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ki tudja a válasz, várjon fél perc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rtalo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nulásra képes rendszerekrő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formatikai rendszer architektúrájának kérdése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éldák (IT architektúr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hol van még mit tanulni (mit csinálunk rosszul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sszefoglal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9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2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5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ocs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gbeszé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m 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Új környezetben a régi reakciók egy része felesl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Amire nincs szükség: el kell felejte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felejtés tudatos is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bséget kell tenni a lényeges és lényegtelen közö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Lényegtelen – felejtés - észlel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97964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nek mi az elképzelése a tanulásról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Összefoglal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ásra 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örny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öntés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ény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éved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ált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mlék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2771640" y="5877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ív és pozitív visszacsatolású, instabil rendsz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beavatk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Informatikai rendszer architektúrájának kérdése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908000" y="3860640"/>
            <a:ext cx="489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Példa (IT architektúra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ök nem únják mé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hol van még mit tanuln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mit csinálunk rosszul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 közös tudás egyben közös kincs i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Önnek mi az elképzelés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 tanulásról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Köszönöm türelmüket és figyelmüke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V É G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zemlé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Szemlél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nulókép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ul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ítj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nálló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gadják mit, hogy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804640"/>
            <a:ext cx="32403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aját képesség javítás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a 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Tanulásra képes rendszerekrő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Vezérlés és szabály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íz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Tanulóképes rendszerek tulajdonság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ematik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Szemléletbeli problém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Ami kimarad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kai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Összefogla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ibernetika: interdiszciplináris kutatási irá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ematika, biológia, szabályozás, társadal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egfontosabb eredményei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ezérlés- és szabályozás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ációelmélet (jel-elméle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állapottér (fázisdiagramm) vizsgál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50:30Z</dcterms:modified>
  <cp:revision>1590</cp:revision>
  <dc:subject/>
  <dc:title>J2EE-001-VargaGy</dc:title>
</cp:coreProperties>
</file>