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CBE6-43A6-46EB-A5C1-354A240D7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B0C5-5D59-4B8F-A2FB-BE0DA4D08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B1F3-F3A8-4B23-A551-7ED909935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2187-22C8-4708-8721-5CEDBA52D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5162-62C3-4186-915D-570F2F9ED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CF90-BE55-4B23-AA4F-6953AB27C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5D4A-FDFC-46BD-A941-08387E4B5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F51B-A259-4F7D-BE17-F5A507468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F8C3-2F9B-47FE-B00A-89E2E4B3E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4D56-D1D8-4420-B4E1-EAC53A259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10F8-FE66-419A-806F-00DB0EB98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4CB4-8B5D-40C4-9FB8-089E0DBD7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A89A-DED2-4910-93DF-74262A44A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9C22-5E3D-4BBB-BA01-86014E725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F8D1-50C1-43BA-B429-C2967738D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C6AF-C8D0-41D6-A5D7-CF3EBA499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F3A8-89B3-46FF-96AD-BFEBFF546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C311-60CD-4A1F-80B4-9AA1C4278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B377-FC5C-4A6C-B349-A135DC30F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1935-25B8-4679-9F17-CF29B0381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5C6E-E04C-428B-BCB1-AEFE25B5E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39F1-8E32-4EAC-8CCB-27A918E40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9461-0CE2-43C7-A9BB-CB048FBBA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BF14-416B-4438-89E4-7E68860E6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16A8-D02A-4B22-B196-6D09BE3C8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7077-2FE9-46BB-BBC9-D0D9847BA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1D0B-1972-4A6A-B4BF-9EF464B0D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A827-74BF-4A58-AA8F-9FBF910F0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1466-240A-4FC6-AE65-BDA5DCF87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C72A-9BA6-4C30-BA10-AF5B4509D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A4E2-0588-4DF9-84CE-5CB961227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1586-FEA7-4947-A940-6ED46E755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F017-002E-4D4E-BF1C-40EA5A354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129E-E5D1-4294-905C-FC50066F8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FAF8-4D4F-4C92-AC3A-19FD72077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9A22-B61F-4ED0-A21A-A1737003C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B95C-E5DE-4C05-AE92-42E72E0F7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066C-500D-4638-A61E-600F5233E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C535-C75B-4769-B287-0C371F5FC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C045-8670-43D8-B530-923945B5B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3596-88A3-4397-8B40-F04F6AEC0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17E3-E0B1-41C4-BA1D-386646415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9843-1226-4C6A-80FB-997E8EEEC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C87D-5C56-4D30-B7EE-0B75670B5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6D66-D1A7-4685-A9EE-5C3E8C7B2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3A60-4806-41C4-81A5-58BE69948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9AC6-E6BC-403F-A883-6F38004B7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2D60-92F9-44DD-AF6D-7C0163ACB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1EC5-3BD8-46C4-AD73-8E0CFE8E9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4237-BC3E-4C45-8CB4-923C63FC5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8887-1B2D-43F2-B3A9-6EBEE69B0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7A0A-7C6B-4745-8881-F06E0AAD7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70A5-DE81-4999-8E93-2FE6067D0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878C-C73D-4973-ACA7-220F35481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C3DD-AFC3-4B07-8F41-A5E433C13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7374-02B7-4033-9EA3-26792ED1F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8CFC-DA53-4FC8-850E-D4CE96F35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DAA2-ECCA-4482-96E3-BCD41E5D0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DDAB-C2F0-4086-9BB2-CA5B1CBE1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77D9-77E3-479E-83DF-F289D2958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6589-D04E-4F4A-941B-B62BF7F09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A01B-B382-44F4-BE82-966949F0F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53A4-0070-44A2-B9FF-1F4664AB5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AD0E-364A-4F1A-BD3D-E54902A26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B7A9-6E45-4E6E-A8CF-20B5AA3A0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C81A-F5E6-4972-8544-7709D0A7D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7382-2EFE-4220-9CA5-7C6F64F23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9428-BF6E-46F2-B1C7-90AFA6B66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E2E-1885-4DD1-B26F-4A94CB0B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FB5-30C2-48AD-92DF-BED42804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4CA-1151-4A0F-96C1-364AA339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D30A-EC54-43E2-99FE-E68D77E3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27F1B-2BC4-4909-BED4-7BE04C70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2D5E4-CF99-4C33-9592-0AE2BECA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04A2C-CCDE-4A03-BE51-0ED301CD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DD284-DA3C-4095-880A-76F19502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2D7E1-5E9B-42A6-823B-D0F77185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F6F42-9BB3-4C4F-97C6-D15F2598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28A0C-9C04-4F35-90B7-119B8EA2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E9C-8C7C-4891-97F7-902F15A6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6D7A4-2D42-4BDE-914D-64D90B3B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4E8B3-66B6-4784-AA4F-D1D6E9B4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BB7FD-EEA6-4166-BDBC-E8E4C77E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870AB-29F7-4DE9-B29F-7A957290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C6C40-C81B-4E7A-B7EB-03C4F8A2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5F0-5D01-420C-AEA3-B1EDD9B8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C67-0ACA-474D-ABD9-1E924D80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647-AAC9-44B6-8242-168C364F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D4F-3841-45D6-AE81-8D803054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C4C-23BC-42A4-B918-42E5AC79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EA7-EE3E-427F-A0AE-A705457A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A80-DE83-4BAC-8573-BCAA54BD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DBC3-9972-45EB-A451-E59CD425A06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E03C-99E6-4DF5-9F14-D2493436D3C9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learning system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539640" y="3645000"/>
            <a:ext cx="784872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Dr.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First published: 2010-02-28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I. About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Controlling (cybernetic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eed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ys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Features of 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hematic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Problems with the general known view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What we are miss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cal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Summa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ybernetics: interdisciplinary resear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hematics, biolology, technical control, socie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st important result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theorie of contro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feed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ation theor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phase dia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71640" y="1844640"/>
            <a:ext cx="70866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i say, what you have to d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oop-contro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comparing „is” and „should be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53964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oop-controlli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finer dia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asur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6012000" y="2708280"/>
            <a:ext cx="1873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valu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572000" y="256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ru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3348000" y="4581360"/>
            <a:ext cx="1009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hou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Get a mode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de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giving a simpler view of realitiy – but proper for out go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Line 12"/>
          <p:cNvSpPr/>
          <p:nvPr/>
        </p:nvSpPr>
        <p:spPr>
          <a:xfrm flipH="1">
            <a:off x="2773080" y="3933720"/>
            <a:ext cx="165420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estsignal, superposition, test pattern, test ser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A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keep constant outpu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12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Line 16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Oval 17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t’s model is known, there is no changing parameter in the mod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B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B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ome paramters of controlled system can be chang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t’s model are known, at least one parameter of the controlled system can be changed by the 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V="1">
            <a:off x="4643280" y="3284280"/>
            <a:ext cx="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- 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adaptiv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s’s model are known –  features of the controlled systems may change, this change will be recognised and given to the mod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AutoShape 22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Line 23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D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only the controlled system can be chang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AutoShape 10"/>
          <p:cNvSpPr/>
          <p:nvPr/>
        </p:nvSpPr>
        <p:spPr>
          <a:xfrm>
            <a:off x="392436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Line 11"/>
          <p:cNvSpPr/>
          <p:nvPr/>
        </p:nvSpPr>
        <p:spPr>
          <a:xfrm flipH="1">
            <a:off x="5003640" y="3933720"/>
            <a:ext cx="11541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Line 13"/>
          <p:cNvSpPr/>
          <p:nvPr/>
        </p:nvSpPr>
        <p:spPr>
          <a:xfrm flipV="1">
            <a:off x="4643280" y="3284280"/>
            <a:ext cx="0" cy="431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 are unable to change the inputs, we can change the controlled system onl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2050920" y="2997360"/>
            <a:ext cx="0" cy="93636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>
            <a:off x="2050920" y="3933720"/>
            <a:ext cx="1800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900000" y="5516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xampl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town water supply, aircraf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Ques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hy is so, that no robot pilot will be used by airliners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50920" y="115920"/>
            <a:ext cx="8381880" cy="27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0066"/>
                </a:solidFill>
                <a:latin typeface="Times New Roman"/>
              </a:rPr>
              <a:t>EXTRACTIO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cc00"/>
                </a:solidFill>
                <a:latin typeface="Times New Roman"/>
              </a:rPr>
              <a:t>EXTRACTION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84360" y="2565360"/>
            <a:ext cx="7696080" cy="15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Times New Roman"/>
              </a:rPr>
              <a:t>from the lectur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About IT Systems with learning capabilit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,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wo types of feedbac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 and positi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971640" y="2565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: the internal controls in all continuously working systems is based on negativ feedbac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5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20"/>
          <p:cNvSpPr/>
          <p:nvPr/>
        </p:nvSpPr>
        <p:spPr>
          <a:xfrm>
            <a:off x="1116000" y="4292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sitiv: a very little change makes a relativ hudge change in the whol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27"/>
          <p:cNvSpPr/>
          <p:nvPr/>
        </p:nvSpPr>
        <p:spPr>
          <a:xfrm>
            <a:off x="1547640" y="54450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everyday thinking: association with destruc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- 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cessity of positiv feedback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ithout control: atomic bom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ith control: nuclear power plant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y for us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ogy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234000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lood clott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4140360" y="386064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ciduous (apoptos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8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 and negativ together: instablili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any controlled loop, where there are positiv and negativ feedbacks, the probability of instability is always greather than nu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116000" y="292428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y: he possibility, that a system may not be controlled anymore; or it comes into a state, which is not acceptable for us and there is no way to get ist back into a proper sta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 and negativ together: potential for oscil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xample: foxes and rabbits in a clos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4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67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Phase sp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hase space technic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 show the parameters of the system in an abtract space, where one single point decribes the whol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4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900000" y="1916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century: way to get knowledge about very compley systemes: get apart, scrutinize these par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971640" y="3284640"/>
            <a:ext cx="72007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In biology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we get no resul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re are so calles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emergent popertie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se cannot be explained by the properties of the consisting par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971640" y="5445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learning „is the capability of  the whole system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900000" y="220500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uch a system has more beginning stability points in the phase spa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s gets from one possible stable point into a next possible stable point in the space via 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dition for learning: self knowledge and a model about the outside wor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knowledge here: how reacts the system, what is the retroactivity of the reaction back to th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mend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hat is out of order, must be mend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or better reaction: making functioning unit more effici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1187280" y="529992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ot 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92" name="Picture 9" descr="untitled2"/>
          <p:cNvPicPr/>
          <p:nvPr/>
        </p:nvPicPr>
        <p:blipFill>
          <a:blip r:embed="rId3"/>
          <a:stretch/>
        </p:blipFill>
        <p:spPr>
          <a:xfrm>
            <a:off x="3059280" y="350028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16"/>
          <p:cNvSpPr/>
          <p:nvPr/>
        </p:nvSpPr>
        <p:spPr>
          <a:xfrm flipV="1">
            <a:off x="2268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 fo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18"/>
          <p:cNvSpPr/>
          <p:nvPr/>
        </p:nvSpPr>
        <p:spPr>
          <a:xfrm flipV="1">
            <a:off x="5940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 lig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AutoShape 19"/>
          <p:cNvSpPr/>
          <p:nvPr/>
        </p:nvSpPr>
        <p:spPr>
          <a:xfrm flipH="1">
            <a:off x="1258920" y="357336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ore lig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AutoShape 20"/>
          <p:cNvSpPr/>
          <p:nvPr/>
        </p:nvSpPr>
        <p:spPr>
          <a:xfrm>
            <a:off x="5724360" y="3573360"/>
            <a:ext cx="1872000" cy="576360"/>
          </a:xfrm>
          <a:prstGeom prst="rightArrow">
            <a:avLst>
              <a:gd name="adj1" fmla="val 50000"/>
              <a:gd name="adj2" fmla="val 81199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ore fo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Text Box 21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 sun loving cell (by Dr. Tibor Gánt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ere are living too much cells: less food, less sunshine.        Into which direction is our friend moveing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arn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-mending in the biology: example bicep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187280" y="515700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ow grow the muscles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Dr.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IT systems with learning capabiliti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900000" y="465300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ar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bility of self mending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making unit more effitient” is only possible with positiv feedbac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1258920" y="421236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here must be positiv feedback in learn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sitiv feedback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1258920" y="5598720"/>
            <a:ext cx="63374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ystems with learning capabilites are – without exception – insta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Is a system capable of learn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900000" y="21337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How we decide, a system is capable of learnin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1116000" y="4292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here are positiv and negativ feedbacks in each systems with learning capabilities –  so they are insta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1116000" y="3500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In this process: there is a non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an good adapt to changing env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1116000" y="537300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arning is: self-mending on nondeterministic wa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Object 2"/>
          <p:cNvGraphicFramePr/>
          <p:nvPr/>
        </p:nvGraphicFramePr>
        <p:xfrm>
          <a:off x="684360" y="1773360"/>
          <a:ext cx="7848360" cy="47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848360" cy="47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 - summar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826920" y="1844640"/>
            <a:ext cx="746784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ach learning system is instable (in pahse spac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apable of making un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gets from a near stable point into another near stable point via 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dition for learning: self knowledge and a model about the outer wor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knowledge here: how reacts the systems, what is the rectroactivity of the reaction back to th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mend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hat is out of order, must be mend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or better reaction: making funtioning unit more efficti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The process of learning is not deterministic and cannot be reproduc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on linear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cta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11280" y="141300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t everybody likes it, but it is needed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thematics of nonlinear equations (chaos theory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971640" y="3141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nlinear system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annot be described with linear euqations: example: turbulent motions in g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gyományos felfog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áris egyenletek leírják a rendszert – folyamatos függvény, deriválható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042920" y="3213000"/>
            <a:ext cx="7201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omplex rendszereket csak komplex függvényekkel lehet leírni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2124000" y="3788640"/>
            <a:ext cx="518472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: egyszerű determinisztikus fügvénny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1547640" y="4507560"/>
            <a:ext cx="5761080" cy="1522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ezdeti feltételek apró változása a viselkedés nem gyanított gazdagságát adhat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látszólagos kaotikus viselkedés rendezett strukúrákat, finom és szép ábrázatokat eredményez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0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042920" y="1773360"/>
            <a:ext cx="70866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isszacsatolás és iteráció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iteráció nagy  komplexitást hozhat lét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pék transzformáció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hetetlen megjósolni, bizonyos (nagy számú) lépés után       mi lesz x érté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1187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lineáris egyenletek: a viselkedés pontos előrejelzése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három paraméteres egyenletrendszer meteorológiai előrejelzés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rendkívül érzékeny a kezdeti paraméterek kicsi változására is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lőrejelzés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illangó-hatás(1979): „Brazilia felett egy pillangó szárnylebbenése akár egy tornádót is okozhat Texas fele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8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az előrejelzés lehetetlensége, hogy egy adott időpontban az attraktor a fázistér melyik pontján halad á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őrejelzés lehetelensége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aotikus rendszer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áosz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5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8"/>
          <p:cNvSpPr/>
          <p:nvPr/>
        </p:nvSpPr>
        <p:spPr>
          <a:xfrm>
            <a:off x="1258920" y="587628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áosz elmélet === nemlineáris egyenletek matematiká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7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ematika- fraktálgeometri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magukhoz hasonló geometriai alakok tanulmányozása (felhő: 7 nagyságrend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619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álok: önmagukhoz hasonló alakzakok, önmagukat kicsinyítve tartalmazz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Please follow next lin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4360" y="1844640"/>
            <a:ext cx="7993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e teleph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oice-, picture- and vidoe recor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Question-Answer: only if one senc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ho knows the answer, should wait ½ a minu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geometria péld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szőnyeg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ényszög közepét – oldalak szerint egyharmad arányban – kivágju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háromszög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lyukas háromszö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9" name="Picture 7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1042920" y="1773360"/>
            <a:ext cx="708660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 Kc azon komplex számok halmaza, amelyekre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8" name="Picture 5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1" name="Picture 5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4" name="Picture 5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7" name="Picture 5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álok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lyen különbségek vannak az előző két kép közöt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1403280" y="378864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álló területek, vagy egy összefüggő 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halmaz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on komplex számok halmaza, amelyekre z = (o + i0) kezdőértékkel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halmaz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halmaz a z=0 kezdőértékk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sejtése: ezek a halmazok összefüggő területet ad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lma-emberk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3" name="Picture 5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6" name="Picture 5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Cont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Text Box 205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bout systems with learning capabilit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lation: learning systems and IT architect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xamples (IT architectur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here we may learn (what are we doing wrong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9" name="Picture 5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iért érekes a Mandelbrot halmaz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971640" y="2133720"/>
            <a:ext cx="708660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t értékelhetjük úgy, mint egy fázistér-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sak azok a Julia ábrák érdekesek, amelyekben a halmazelemek összefüggő területet alkot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nnyiben egy rendszert csak ezen a területen belül engedjül létezni, a rendszer működőképes (korlátos) marad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 – nemlineáris egyenletekkel leírt – rendszer stabilitása nagyon érzékeny a pontos kezdeti feltételek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jegyzés: nincs kijelentésünk a gyűjtőpontok (attraktor) számáról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1403280" y="5804640"/>
            <a:ext cx="5761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Mandelbrot halmaz szélei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ok - ké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8" name="Picture 5" descr="800px-Mandelbrotmenge_Orbit_Alle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971640" y="213372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repülőtér, két kijár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116000" y="4651920"/>
            <a:ext cx="6912000" cy="974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valós életben a döntések egy része nem előre meghatározot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hozzájárul ahhoz, hogy tudunk tanulni (alkalmazkodni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a a döntés nem manifelsztálódik a külső vagy belső modell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„alkotó” soha nem tudja meg, mikor miért döntött a rendszer úgy ahogy te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eljes tanulási folyamat nem ismételhető meg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ztikus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az a pont, ahol a műszaki embereket kirázza a hideg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 az a jelenség vagy folyamat, ami jellemző a tanulóképes rendszerekre, és még nem volt róla szó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re iszik a magyar ember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AutoShape 8"/>
          <p:cNvSpPr/>
          <p:nvPr/>
        </p:nvSpPr>
        <p:spPr>
          <a:xfrm>
            <a:off x="2700360" y="2205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ercep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u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AutoShape 10"/>
          <p:cNvSpPr/>
          <p:nvPr/>
        </p:nvSpPr>
        <p:spPr>
          <a:xfrm>
            <a:off x="4932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iscus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ot 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org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042920" y="1773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Lot of old reactions is unnesessary in the new situ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What won’t be needed: should be forgot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omething to forget: may be consio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187280" y="4075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stinction between important and not 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971640" y="2421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not important – forgetting - perce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971640" y="4652280"/>
            <a:ext cx="648000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észlelést tudatunk – a lényeges, lényegtelen alapján –  jelentősen befolyásol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, hogy mit tartunk lényegtelennek, észlelésünket is befolyásolja. Nagyon jelentőse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971640" y="1844640"/>
            <a:ext cx="708660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reprodukciója (másolása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reprodukciója egyszerű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már „tanult” rendszer másolása csak akkor egyszerű, ha a rendszer működés közben is fizikailag jól körülhatárolt és elválaszható környezetétő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tanított ideghálózat-szimuláci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férfi-nő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P A R T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1 / 4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önreprodukciója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em foglalkozunk ve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116000" y="4005360"/>
            <a:ext cx="70866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ámítógép vírusok: adaptációra képes „alkotások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Kérdés: hogyan vizsgálják meg, hogy befogadót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az adott számítógépet) már megfertőződöt-e az adot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írustó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539640" y="1773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3564000" y="2276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nw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AutoShape 9"/>
          <p:cNvSpPr/>
          <p:nvPr/>
        </p:nvSpPr>
        <p:spPr>
          <a:xfrm>
            <a:off x="284328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ercep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AutoShape 10"/>
          <p:cNvSpPr/>
          <p:nvPr/>
        </p:nvSpPr>
        <p:spPr>
          <a:xfrm>
            <a:off x="3132000" y="4437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ecision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ista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Line 17"/>
          <p:cNvSpPr/>
          <p:nvPr/>
        </p:nvSpPr>
        <p:spPr>
          <a:xfrm flipH="1">
            <a:off x="2627280" y="4724280"/>
            <a:ext cx="432000" cy="289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Line 18"/>
          <p:cNvSpPr/>
          <p:nvPr/>
        </p:nvSpPr>
        <p:spPr>
          <a:xfrm>
            <a:off x="4572000" y="4724280"/>
            <a:ext cx="28728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Line 19"/>
          <p:cNvSpPr/>
          <p:nvPr/>
        </p:nvSpPr>
        <p:spPr>
          <a:xfrm flipH="1">
            <a:off x="2268000" y="4581360"/>
            <a:ext cx="721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obliv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Text Box 24"/>
          <p:cNvSpPr/>
          <p:nvPr/>
        </p:nvSpPr>
        <p:spPr>
          <a:xfrm>
            <a:off x="1979640" y="5877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nstabile system with a lot of negative and positive loop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END OF  PART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1 / 4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IT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rchitectur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his is a real technical issu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Examples (IT architecture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Is this not borin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hat we can do it better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what is wrong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Common knowledge is common treasur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hat is your view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learning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hank for your attention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systems with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learning capabiliti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What is your view about learnin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emlélet: egy adott témához kapcsolódó felfogás vagy állásp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elfogás: gondolkodásmód, elképz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mód: mód, aholgyan gondolkodunk (spontán, érzelemmel, racionálisan,.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: belső elfoglaltság, amikor megpróbálunk egy felismerést megfogalmazni,elképzelések, emlékek és fogalmak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124000" y="5589000"/>
            <a:ext cx="44658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szemlélet alapja a hit, vagy a tu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Capable of learn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hat is the criterion to be able to lear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118728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kill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AutoShape 14"/>
          <p:cNvSpPr/>
          <p:nvPr/>
        </p:nvSpPr>
        <p:spPr>
          <a:xfrm>
            <a:off x="594036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wn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hat and how: will be giv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4788000" y="5804640"/>
            <a:ext cx="3456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king own capability bett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1835280" y="2923560"/>
            <a:ext cx="51847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an good adapt to changing env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45:16Z</dcterms:modified>
  <cp:revision>1598</cp:revision>
  <dc:subject/>
  <dc:title>J2EE-001-VargaGy</dc:title>
</cp:coreProperties>
</file>